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E6C16-E6CF-4017-979E-5EC8B49216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648B0-0D2E-489B-8CE3-3163AB192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ção ao estudo de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anteriormente deteta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95E35-B911-4D34-9F8D-CA46BBEBA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 esta formação, foram criadas empresas e países fictícios. Estes são Atlantis, Norland, Ostland, Westland, etc. Para o exercício, todos eles ratificaram a Convenção do Conselho da Europa sobre Cibercrime (“Convenção de Budapeste”). Esta abordagem é para permitir a transferência da formação entre jurisdições, sem a necessidade de grandes mudanças nos materiais do curso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29B82-0C0A-462A-A230-775A7BB5B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trodução do facto de que, por causa do período de férias de verão, funcionários recentemente contratados foram incluídos numa operação tão importante deve levantar imediatamente suspeitas entre os forman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0C45B-CC97-46FD-8132-01A9305C2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iguração financeira deve indicar que a transferência bancária inicial não teve problemas e que mencionar as contas SWIFT e IBAN significa que a transferência de dinheiro é da natureza internacional e não nacio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começar a considerar a utilização dos artigos de assistência jurídica internacional da Convenção de Budapest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E6E7C-2F4B-46F8-A1B0-81538E50B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098DB-5BB9-4D6B-B663-3414C1176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9469F-BACC-43B3-8229-A95E8B23E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636E2-B4BA-4B01-918A-6FF54D3DC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FE85F-C438-4AEC-8A23-9AE727909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oante o desenvolvimento do cenário, os formadores podem desenvolver transações adicionais entre a conta bancária em Ostland e contas bancárias noutros países pertencentes a partes estatutárias da Convenção de Budapeste ou não. Ao critério dos formadores, o fim das transferências bancárias pode ser no país que está dentro do âmbito da Convenção de Budapeste ou não. No segundo caso, provavelmente os vestígios e provas finais serão perdidos ou não poderão ser recupera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70C9D-BA78-47BC-A408-C07DB581B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apresentação e apresentará as principais partes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1A8A2-1812-4368-99BC-4106BB0CE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A904F-A831-4A31-8149-4530AFB7B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ECC64-21B6-4A0B-87C1-EACD109B3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49A1F-44F7-4DE0-ADF6-3EF2A0297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as eletrónicas devem ser examinadas e utilizadas como ferramenta essencial para a construção e o término da investigação e a preparação do caso para julgam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A02FC-7BDF-4D3D-882E-864054E51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52C4C-19B9-4A27-939D-F3A4083C8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99DD1-EEE1-40FD-AFA4-98E2BA2CA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A2980-1905-4C66-B42C-093533253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78AB7-EAF4-402B-9642-BC11C72D5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ário de estudo de caso começa com o estabelecimento do Federal Bank of Atlantis (FBA), banco internacional bem conhecido, bem estabelecido e respeitado. Uma descrição como esta deve levar os formandos a tomarem uma decisão de que este tipo de banco não deve estar envolvido em nenhum tipo de problema, muito menos aqueles semelhantes a um que será descrito adia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identificar os principais factos e as principais divisões e participantes do negócio, a fim de compreender o âmbito e a configuração do círculo de negócios, no qual serão definidos mais detalhes sobre 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1FA79-2F9B-4DC9-8ADC-92E4426B6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Federal Bank of Atlant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AB6B4-8CB1-4909-A9D4-335B17D15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United Bank Prin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B5D0C-4708-49A6-88C6-58B2B6E85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Docklands Securities Bank of Nor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D34C0-DEC8-4E79-A83F-0636D4B95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CA52F-CA89-4513-A196-0DE657378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C45-5DCA-41BB-91FC-7476358F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16E-9C3F-4AC9-92CE-3B25DF7D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7B9-C480-4AC3-905B-39465168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CB1-E229-4B48-88E6-0D1CC14D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29C-B74C-4992-AFB4-1F580B5E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A8B-08AF-45F6-87B8-D0DD1E53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64A-F8E0-4A1C-B095-46C2C67A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C5E-02DE-4D54-A038-C9B74DC5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1AD-E3CC-4E33-A084-2667FC0A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D3E-9713-401F-A5B7-956BAFD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928-218D-45C6-881F-8776083A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E72-AD6B-46DA-A85C-15C5502D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DC8BC-3186-4974-8BB7-0B3B30173F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B20C7-A211-4F99-B024-5D3D158D1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Sessão 2.2.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Introdução ao estudo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BE61576-5A15-42D1-879F-7A7B18E75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BA), na qualidade de banco conhecido, bem-sucedido e fiáve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issão de bónus especial de aniversár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partamento de Logística e Operaçõ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LO) encarregado da logística deste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UBP) como fornecedor de material de impressã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ão do Departamento Financeiro do F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r parte do DLO na logística do negóc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EE3FC73-1BD6-4973-B7DD-07763D1E0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6328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vido ao período de férias de verã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, foi incluído o pessoal júnior e recentemente contratad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uspeita de que o pessoal júnior é, na verdade, membro do grupo de crime organizad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que solicitou a posição de nível inferior do DLO, a fim de obter qualquer tipo de acesso direto aos computadores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O objetivo era apresentar um e-mail específico de spywar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capaz de fazer cópias de correspondência por e-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2F8B796-1CF0-4D0B-98F1-D8EF0DD39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1104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"Foi feito um pedido por parte do FBA para a compra de 20.000 materiais em papel especializados da UBP pelo preço de 300.000 €. Os departamentos relevantes do FBA e da UBP começaram a tratar da parte logística e financeira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inclusão do Docklands Securities Bank of Norland no círculo de negócios como banco designado da UBP para a transferência de dinheir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agamento efetivo da transferência inicial de 100.000 € entre o FBA e a UBP com contas DSBL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trodução do facto de as contas SWIFT e IBAN serem incluídas na transação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4DBEB7E-54D1-4D9B-B008-3BB45EEC1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3269646-D945-423B-BF53-3D0C38B1F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946DE4A-5DDE-462A-A225-73575C7A3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determinante para a perpetração do crime - o membro do OCG, através de spyware, conseguiu seguir o desenvolvimento da transação comercial entre o FBA e a UB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ção e reação imediata no momento do pagamento fi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Utilização de faturas falsas previamente elaboradas com títulos de e-mai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odo o esquema assumiu um caráter mais urgente, tal como o Departamento Financeiro d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473B962-CA62-4B3D-93D3-EB350D2E8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6820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 impressão efetiva do material em papel foi feita e a UBP notificou esse facto, sendo que o FBA solicitou o pagamento devid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membro infiltrado do grupo de crime organizado, através de spyware, detetou os momentos finais da conclusão do negóci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grupo registou-se como empresa "fictícia" em Ostland e abriu uma conta bancária comercial na filial do banco utilizado em Ostland pelo FBA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lsa documentação, incluindo a parte principal – foi elaborada uma fatura falsa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89FA59E-D030-487D-8522-F62DF6C67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2160"/>
            <a:ext cx="82296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 servidor SMTP aberto foi encontrado e testado para envio de e-mails falsos (ou pode ser utilizado um exemplo de uma conta de webmail com uma pequena alteração ao nome da conta de e-mail, consoante as habilidades do formador)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s serviços do servidor de e-mail SMTP aberto foram pagos em Bitcoins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Foram elaborados e-mails falsos, incluindo os nomes das pessoas do Departamento Financeiro, detalhes sobre o contrato e o idioma que foram utilizados anteriormente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76135CD-D876-4F8E-82D1-E77345008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iretor Financeiro autoriza a transferência com base em documentos apresentados anteriormente: correio falso da UBP com uma fatura falsa que continha a conta bancária falsa num país diferente tanto para o FBA como para 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em que a fraude é cometida e 200.000 EUR são transferidos para a conta fraudulent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epartamento Financeiro da UBP conferiu a sua conta bancária e respondeu à FBA dizendo que não foi recebido qualquer pagam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B960E4C-F2B9-433D-9BCD-83560A308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i="1" lang="pt-PT" sz="26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s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F2DE6B1-B812-4841-93EA-1F948D8DB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07C3258-8CAA-4AF7-A546-43CD9A2E0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13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9A0257A-E059-4092-806B-BBE023944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DSBN em Norland e Ostland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3DE595C-8F2E-4F8B-9D91-CF4B686A7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eletrónicas e outras provas de ambos os banc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da autoridade de registo comercial competente em Ostland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operação entre a polícia, o Ministério Público e, se for caso disso, juízes de instruçã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clusão de assistência jurídica internacional nas disposições da Convenção de Budapeste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105153F-19BA-4319-9B11-63A5F88BB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ncipais provas eletrón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yware utilizado no FB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dor SMTP para envio de 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ptomoeda (Bitcoin)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regulare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turas falsa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informáticos da UBP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bancári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comerciais da empres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de vigilânci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ra provas eletrónicas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0E0BCFC-1E42-4DA1-8580-5358988BC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F8D0C0B-93AC-45DD-8B29-838C7AD4D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061640"/>
            <a:ext cx="851220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910DFDD-3D2C-4EB2-BC4E-96CB6EA94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43F49B1-EE46-427B-8BCC-6727D7958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047240"/>
            <a:ext cx="85122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s 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1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4B1F394-337C-478D-B6C4-CDEE91451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C0596F9-9179-4B94-BF70-6C87D5997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70D46E6-538B-4E52-8261-3F2E522B7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582560"/>
            <a:ext cx="840420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Banco fornec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uma série de serviços bancários e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Federal Bank of Atlantis Ltd., FBA Bank Towers, Atlantis 12345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 e funcionários: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residente Independente Não Executivo do Conselho, Diretor Executivo, Diretor-Geral, Diretor a Tempo Inteiro, Diretor Executivo e Financeiro do Grupo, Secretário da Empresa, Diretor-Geral Executivo (Jurídico), Diretor-Geral Executivo e Chefe de Relações com Investidores, Auditoria Interna do Grupo e Diretor-Geral Executivo, Diretor Executivo, Chefe do Departamento de Logística e Operações, Chefe do Departamento de Tecnologia da Informaç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8470E1D-35D3-4D0C-BF7D-0D601DE87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Users\B.Stam\Desktop\AJT evidences\FBA logo.jpg"/>
          <p:cNvPicPr/>
          <p:nvPr/>
        </p:nvPicPr>
        <p:blipFill>
          <a:blip r:embed="rId1"/>
          <a:stretch/>
        </p:blipFill>
        <p:spPr>
          <a:xfrm>
            <a:off x="6675480" y="957240"/>
            <a:ext cx="20113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4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UBP fornece serviços de impressão e gestão da cadeia de suprimentos especializados para o setor bancário. A empresa também organiza e envia publicações bancárias de curto a médio prazo, que são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stribuídas em revistas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specializ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United Bank Printing, Green Garden Avenue 123, Blankenberg 123456, Norlan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iretor Executivo, Diretor-Geral, Diretor a Tempo Inteiro, Diretor Financei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5FD29-DA5A-4C56-81AF-368C70CAA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B.Stam\Desktop\AJT evidences\UBP.jpg"/>
          <p:cNvPicPr/>
          <p:nvPr/>
        </p:nvPicPr>
        <p:blipFill>
          <a:blip r:embed="rId1"/>
          <a:stretch/>
        </p:blipFill>
        <p:spPr>
          <a:xfrm>
            <a:off x="5840280" y="1349280"/>
            <a:ext cx="24051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34800" y="1095480"/>
            <a:ext cx="84744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Doklands Securities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Docklands Security Bank of Norland presta serviços banc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a corporações, governos, investidores institucionais, pequenas e médias empresas e pessoas físic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ocklands Security Bank of Norland, DSBN Homestead Building, Blankenberg 65432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Presidente Independente Não Executivo do Conselho, Diretor Executivo, Diretor-Geral, Diretor a Tempo Inteiro, Diretor Executivo e Financeiro do Grupo, Secretário da Empresa, Diretor-Geral Executivo, Diretor-Geral e Chefe de Relações com Investidores, Chefe de Auditoria Interna do Grupo e Diretor-Geral Executivo, Diretor Execut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14BB924-E894-46A2-9767-D4C3860FC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lika 5" descr="C:\Users\B.Stam\Desktop\DSBN.jpg"/>
          <p:cNvPicPr/>
          <p:nvPr/>
        </p:nvPicPr>
        <p:blipFill>
          <a:blip r:embed="rId1"/>
          <a:stretch/>
        </p:blipFill>
        <p:spPr>
          <a:xfrm>
            <a:off x="5423040" y="1192320"/>
            <a:ext cx="3122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4D40606-FDE4-422E-85D3-A8AA63548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53:08Z</dcterms:modified>
  <cp:revision>166</cp:revision>
  <dc:subject/>
  <dc:title>Introductory Cybercrime Training for Judges and Prosecutors</dc:title>
</cp:coreProperties>
</file>